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png" ContentType="image/png"/>
  <Override PartName="/ppt/media/image1.png" ContentType="image/png"/>
  <Override PartName="/ppt/media/image2.png" ContentType="image/png"/>
  <Override PartName="/ppt/media/image3.png" ContentType="image/png"/>
  <Override PartName="/ppt/media/image8.jpeg" ContentType="image/jpeg"/>
  <Override PartName="/ppt/media/image12.wmf" ContentType="image/x-wmf"/>
  <Override PartName="/ppt/media/image4.png" ContentType="image/png"/>
  <Override PartName="/ppt/media/image5.jpeg" ContentType="image/jpeg"/>
  <Override PartName="/ppt/media/image7.png" ContentType="image/png"/>
  <Override PartName="/ppt/media/push.wav" ContentType="audio/x-wav"/>
  <Override PartName="/ppt/media/image9.png" ContentType="image/png"/>
  <Override PartName="/ppt/media/image6.jpeg" ContentType="image/jpe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A99B-9A02-42CE-B333-F8680A3A299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3878-5860-4A23-95E9-80A2C5379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6D55-8AB4-4230-89D3-A29C16368F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E8D3-606A-45A5-8370-606F3AC67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FB6F-B372-4F22-85A4-EA9AE8286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0C7D-D607-48CF-AEE7-3B04BF468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9E03-B89F-456D-B091-CB9241FE04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B390-745D-4DD5-AFA8-BEB3E409B9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9503-11B7-407B-963E-BAA01CBF16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099D-B94C-4727-9C81-246F16D5E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EAC92-653D-496F-8120-B0D5D1920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98E54-D38A-4611-B8B0-32A559D6C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6BE03-084B-4F06-A76D-87377E3F3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48E43-631C-4211-B49B-D014F259D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02BFE-4E88-4B58-B6CD-A47DDC70B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E6347-B71A-481A-BB00-6CD14BBE7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4A47C-B3CB-4269-BE47-DE2EA0583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2B634-5A3B-47CA-A6D8-B5D08F48D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B97EF-9500-4E8D-8A55-D43E6F8B9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1E149-A4F3-4C85-B141-EE4C58857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07838-CBD6-4DCC-ADDB-693F964BE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C5352-A28D-4269-8542-C71BB8074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DC624-E32F-4084-9DD8-BFB67A06D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2A1AD-75C5-4533-AD19-A6DE713AD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FA757-C83D-475C-B9AC-DAA8FAEFE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A8701-2F01-4C15-928D-640C06E10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89739-5EB8-4872-84E4-A208E057E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A41EE4-4A85-49ED-9725-1006BE8E75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8DA6A4-B2FB-4B55-8808-011A588CFA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9B573-70CE-460E-8F88-97716D5C7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B589DA-CBC3-4CCC-A78A-6A5973F29A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434B93-039A-4D1B-9CF6-840EED31D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217A8-2B8D-4A49-83A7-33FBDE5D8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0C46A-9D3C-437B-9B46-7F78AAEFDF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50074-F393-4BA9-B190-3653DCF47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73848-8768-4E64-ADC7-05F57E0A80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C0D2B-BEE1-47C8-9B9B-A69E10177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7A31C5-4E0E-4771-BCBA-1CCA065384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7FD3C5-E538-43F1-8870-08C268CF40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B02549-C952-4721-A895-1341D8866C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6079A0-A207-44DE-BDF8-9BBFE9D03C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026F70-F19E-42A6-91D5-A240D5CE1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8B225-CE57-4F69-B36E-8EFB5CBC72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1BF0F-6509-4F9F-B51D-26FFE3671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62E61E-5A5D-4DDC-8441-48E888C395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83CF9A-A0DD-46EF-82C3-2AFB9480B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DFCC3-9BED-4C42-95D0-A87E3784B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F1BCBA-590B-46B2-922C-39EF6AD04E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1F637-9D48-45F4-8293-1D922B2F2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ED7FC-59E1-4581-8973-08E8204F4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B7ACBE-A528-432A-AE2C-B4E58BBF8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46717D-1B6B-403E-AAF7-18FA87CBDD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B88549-4DDD-4386-A4F3-E4F3849F17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4770FB-01C3-4F43-BFB6-EE5A9DFE52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48F8C-7586-49E5-9F2C-B39F0A944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3DA65B-DBB0-404F-8EA1-8465D907AB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A15DC6-512D-425C-834A-E854112199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059E8E-318C-4039-9997-267CE55548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1562B6-ED1E-4C6B-A940-4553DA1679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52BF3F-8E4A-4BBB-B3B8-7E68C8062A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953464-364D-4296-A194-3EC4F64B6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9026D-3CE3-428C-ABB6-682D15020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3DC31A-E8D8-4FAF-AF43-A4564646D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1A6BD4-D1A5-4179-9F42-43FCA77922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B1152A-035F-4F88-B4DD-54F8B7B7D9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81DAF-84C6-478E-9F56-588C0D18E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21C322-60D3-42E3-93B3-69BD41D8A0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4F780D-F70E-4100-9D3D-6F40BB7D3F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78B6E5-984A-4D05-B627-99BE63604B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89732E-13DA-4488-9AA6-26BE49549F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968164-B9E5-4BC3-8EA0-F7E6704B61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65C4C8-F175-4D38-A54C-CA92CF6BF6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0FAD7F-9040-4D34-9216-151CDA382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4E8979-E2D8-4DAB-897D-E358A13268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66BEA4-06F2-486C-AE6D-CCC13D4F79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F0647-0C36-4CD9-A303-8108D0D119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07EA1-56AA-43EE-AC60-0794637F5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067CD-680D-40F5-898C-C5CB951DC8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AD5703-1BDA-4EA2-942F-D53FCF7FCC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F927D9-0CA1-4357-9C27-A385E8DF2E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762CD0-5083-45DE-89BE-9C122CF11D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10E903-74F1-4B91-A760-0C9F521CA2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42D70D-9DBA-47FD-8F82-7CAA44DF1A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529BD7-DD8C-4094-BC5B-1A5E347084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E9DB67-170A-4ABA-90DA-8494850BA3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61119A-B254-4E62-B5EA-3D669EEECD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668878-0251-46AF-80ED-C68C6EFAE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8062D-3FEC-4745-9EB5-71DBB27A3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8145D-C07F-460E-A6D8-EF4C134956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3E1AF3-B1B1-4463-A8E3-3EA8EB195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EC31D-2306-4B5F-9619-3B9D6C1536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333D69-7D47-4FBB-AB09-4B7B47E77D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E6A8F8-9AA9-4E24-AE3C-63D5C6F850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268ACD-D552-400F-A707-933B12BDA2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71674C-055F-44D8-9BD5-EE3E0ADBBB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2DF41A-67F7-4745-BAFB-9F163ADC1B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F1547D-CBCC-486A-9A4B-98A91E17B6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34A476-AE53-49E2-925A-D758D04BF8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A3EBD-8DCA-4FC1-BB17-36B9D3CED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3D0CB5-5E02-401B-A8FA-B785DEF312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D4016C-AEB7-4BFC-BB53-757A841B3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B3CE5-5E85-4E52-A772-95FDFD64E6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CB0B0B-F840-4B66-930F-196DA39AC9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9C769D-9B5D-416F-B815-178695A9EC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3B57B9-5065-4224-983F-FD4A3CEF2C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B23920-B6C9-4871-85DE-D5AB6E1D410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3E43-B157-4448-B0FF-227CFDE0ECF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8854-E899-4CBE-B4CE-691120C14359}"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4524-353C-45BD-B637-37520C2C4C9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8251-71B3-4328-9C68-8D7D42E08D5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5FFD-CC2F-426A-A828-65138F7A709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C249-1FB2-4C76-8E2A-0BD6BEA1AC5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0D88-1B6A-4C37-AEB0-0D32D4FF654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11E4-CC7E-4B76-833E-48BD51159B47}"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push.wav"/><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dvocacyinstitute.org/UDL/Educatorfaqs.s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755640" y="237960"/>
            <a:ext cx="7937640" cy="221328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pic>
        <p:nvPicPr>
          <p:cNvPr id="379" name="Picture 4" descr="http://t2.gstatic.com/images?q=tbn:2r2ewLRQT3i-VM:http://blog.teenmentalhealth.org/wp-content/uploads/2008/11/brain.jpg&amp;t=1"/>
          <p:cNvPicPr/>
          <p:nvPr/>
        </p:nvPicPr>
        <p:blipFill>
          <a:blip r:embed="rId2"/>
          <a:stretch/>
        </p:blipFill>
        <p:spPr>
          <a:xfrm>
            <a:off x="3048120" y="2438280"/>
            <a:ext cx="3047760" cy="2362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iterate type="wd">
                                    <p:tmAbs val="50"/>
                                  </p:iterate>
                                  <p:childTnLst>
                                    <p:audio isNarration="0">
                                      <p:cMediaNode showWhenStopped="1">
                                        <p:cTn/>
                                        <p:tgtEl>
                                          <p:sndTgt r:embed="rId3" name="push.wav"/>
                                        </p:tgtEl>
                                      </p:cMediaNode>
                                    </p:audio>
                                    <p:animEffect filter="blinds(horizontal)" transition="out">
                                      <p:cBhvr additive="repl">
                                        <p:cTn id="6" dur="500"/>
                                        <p:tgtEl>
                                          <p:spTgt spid="377"/>
                                        </p:tgtEl>
                                      </p:cBhvr>
                                    </p:animEffect>
                                    <p:set>
                                      <p:cBhvr>
                                        <p:cTn id="7" dur="1" fill="hold">
                                          <p:stCondLst>
                                            <p:cond delay="499"/>
                                          </p:stCondLst>
                                        </p:cTn>
                                        <p:tgtEl>
                                          <p:spTgt spid="377"/>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79"/>
                                        </p:tgtEl>
                                        <p:attrNameLst>
                                          <p:attrName>style.visibility</p:attrName>
                                        </p:attrNameLst>
                                      </p:cBhvr>
                                      <p:to>
                                        <p:strVal val="visible"/>
                                      </p:to>
                                    </p:set>
                                    <p:animEffect filter="fade" transition="in">
                                      <p:cBhvr additive="repl">
                                        <p:cTn id="12" dur="2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838080"/>
            <a:ext cx="754380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UD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Universal Design for Learn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a set of principles for curriculum development that give all individuals equal opportunities to lear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vides a blueprint for creating instructional goals, methods, materials, and assessments that work for everyone--not a single, one-size-fits-all solution but rather flexible approaches that can be customized and adjusted for individual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380">
                                            <p:txEl>
                                              <p:pRg st="0" end="0"/>
                                            </p:txEl>
                                          </p:spTgt>
                                        </p:tgtEl>
                                        <p:attrNameLst>
                                          <p:attrName>style.visibility</p:attrName>
                                        </p:attrNameLst>
                                      </p:cBhvr>
                                      <p:to>
                                        <p:strVal val="visible"/>
                                      </p:to>
                                    </p:set>
                                    <p:animEffect filter="wipe(down)" transition="in">
                                      <p:cBhvr additive="repl">
                                        <p:cTn id="19" dur="500"/>
                                        <p:tgtEl>
                                          <p:spTgt spid="380">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380">
                                            <p:txEl>
                                              <p:pRg st="1" end="1"/>
                                            </p:txEl>
                                          </p:spTgt>
                                        </p:tgtEl>
                                        <p:attrNameLst>
                                          <p:attrName>style.visibility</p:attrName>
                                        </p:attrNameLst>
                                      </p:cBhvr>
                                      <p:to>
                                        <p:strVal val="visible"/>
                                      </p:to>
                                    </p:set>
                                    <p:animEffect filter="wipe(down)" transition="in">
                                      <p:cBhvr additive="repl">
                                        <p:cTn id="24" dur="500"/>
                                        <p:tgtEl>
                                          <p:spTgt spid="380">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380">
                                            <p:txEl>
                                              <p:pRg st="3" end="3"/>
                                            </p:txEl>
                                          </p:spTgt>
                                        </p:tgtEl>
                                        <p:attrNameLst>
                                          <p:attrName>style.visibility</p:attrName>
                                        </p:attrNameLst>
                                      </p:cBhvr>
                                      <p:to>
                                        <p:strVal val="visible"/>
                                      </p:to>
                                    </p:set>
                                    <p:animEffect filter="wipe(down)" transition="in">
                                      <p:cBhvr additive="repl">
                                        <p:cTn id="29" dur="500"/>
                                        <p:tgtEl>
                                          <p:spTgt spid="380">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380">
                                            <p:txEl>
                                              <p:pRg st="5" end="5"/>
                                            </p:txEl>
                                          </p:spTgt>
                                        </p:tgtEl>
                                        <p:attrNameLst>
                                          <p:attrName>style.visibility</p:attrName>
                                        </p:attrNameLst>
                                      </p:cBhvr>
                                      <p:to>
                                        <p:strVal val="visible"/>
                                      </p:to>
                                    </p:set>
                                    <p:animEffect filter="wipe(down)" transition="in">
                                      <p:cBhvr additive="repl">
                                        <p:cTn id="34" dur="500"/>
                                        <p:tgtEl>
                                          <p:spTgt spid="3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5800" y="609480"/>
            <a:ext cx="7772400" cy="5486400"/>
          </a:xfrm>
          <a:prstGeom prst="rect">
            <a:avLst/>
          </a:prstGeom>
          <a:noFill/>
          <a:ln w="0">
            <a:noFill/>
          </a:ln>
        </p:spPr>
        <p:txBody>
          <a:bodyPr lIns="45720" rIns="45720" anchor="t">
            <a:noAutofit/>
          </a:bodyPr>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udents come to the classroom with a variety of needs, skills, talents, and interests.</a:t>
            </a:r>
            <a:endParaRPr b="0" lang="en-US" sz="2800" spc="-1" strike="noStrike">
              <a:solidFill>
                <a:srgbClr val="000000"/>
              </a:solidFill>
              <a:latin typeface="Lucida Sans Unicode"/>
            </a:endParaRPr>
          </a:p>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 many learners, the typical is littered with barriers and roadblocks, while supports are relatively few. </a:t>
            </a:r>
            <a:endParaRPr b="0" lang="en-US" sz="2800" spc="-1" strike="noStrike">
              <a:solidFill>
                <a:srgbClr val="000000"/>
              </a:solidFill>
              <a:latin typeface="Lucida Sans Unicode"/>
            </a:endParaRPr>
          </a:p>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ed with an inflexible curriculum, students and teachers are expected to make extraordinary adjustments. </a:t>
            </a:r>
            <a:endParaRPr b="0" lang="en-US" sz="2800" spc="-1" strike="noStrike">
              <a:solidFill>
                <a:srgbClr val="000000"/>
              </a:solidFill>
              <a:latin typeface="Lucida Sans Unicode"/>
            </a:endParaRPr>
          </a:p>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DL turns this scenario around, placing the burden to adapt on the curriculum itself. </a:t>
            </a:r>
            <a:endParaRPr b="0" lang="en-US" sz="2800" spc="-1" strike="noStrike">
              <a:solidFill>
                <a:srgbClr val="000000"/>
              </a:solidFill>
              <a:latin typeface="Lucida Sans Unicode"/>
            </a:endParaRPr>
          </a:p>
          <a:p>
            <a:pPr marL="514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381">
                                            <p:txEl>
                                              <p:pRg st="0" end="0"/>
                                            </p:txEl>
                                          </p:spTgt>
                                        </p:tgtEl>
                                        <p:attrNameLst>
                                          <p:attrName>style.visibility</p:attrName>
                                        </p:attrNameLst>
                                      </p:cBhvr>
                                      <p:to>
                                        <p:strVal val="visible"/>
                                      </p:to>
                                    </p:set>
                                    <p:animEffect filter="wipe(down)" transition="in">
                                      <p:cBhvr additive="repl">
                                        <p:cTn id="41" dur="500"/>
                                        <p:tgtEl>
                                          <p:spTgt spid="3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381">
                                            <p:txEl>
                                              <p:pRg st="1" end="1"/>
                                            </p:txEl>
                                          </p:spTgt>
                                        </p:tgtEl>
                                        <p:attrNameLst>
                                          <p:attrName>style.visibility</p:attrName>
                                        </p:attrNameLst>
                                      </p:cBhvr>
                                      <p:to>
                                        <p:strVal val="visible"/>
                                      </p:to>
                                    </p:set>
                                    <p:animEffect filter="wipe(down)" transition="in">
                                      <p:cBhvr additive="repl">
                                        <p:cTn id="46" dur="500"/>
                                        <p:tgtEl>
                                          <p:spTgt spid="3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381">
                                            <p:txEl>
                                              <p:pRg st="2" end="2"/>
                                            </p:txEl>
                                          </p:spTgt>
                                        </p:tgtEl>
                                        <p:attrNameLst>
                                          <p:attrName>style.visibility</p:attrName>
                                        </p:attrNameLst>
                                      </p:cBhvr>
                                      <p:to>
                                        <p:strVal val="visible"/>
                                      </p:to>
                                    </p:set>
                                    <p:animEffect filter="wipe(down)" transition="in">
                                      <p:cBhvr additive="repl">
                                        <p:cTn id="51" dur="500"/>
                                        <p:tgtEl>
                                          <p:spTgt spid="3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381">
                                            <p:txEl>
                                              <p:pRg st="3" end="3"/>
                                            </p:txEl>
                                          </p:spTgt>
                                        </p:tgtEl>
                                        <p:attrNameLst>
                                          <p:attrName>style.visibility</p:attrName>
                                        </p:attrNameLst>
                                      </p:cBhvr>
                                      <p:to>
                                        <p:strVal val="visible"/>
                                      </p:to>
                                    </p:set>
                                    <p:animEffect filter="wipe(down)" transition="in">
                                      <p:cBhvr additive="repl">
                                        <p:cTn id="56" dur="500"/>
                                        <p:tgtEl>
                                          <p:spTgt spid="3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2" descr=""/>
          <p:cNvPicPr/>
          <p:nvPr/>
        </p:nvPicPr>
        <p:blipFill>
          <a:blip r:embed="rId1"/>
          <a:stretch/>
        </p:blipFill>
        <p:spPr>
          <a:xfrm>
            <a:off x="433440" y="268200"/>
            <a:ext cx="8369280" cy="420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ubTitle"/>
          </p:nvPr>
        </p:nvSpPr>
        <p:spPr>
          <a:xfrm>
            <a:off x="380880" y="762120"/>
            <a:ext cx="8305920" cy="5029200"/>
          </a:xfrm>
          <a:prstGeom prst="rect">
            <a:avLst/>
          </a:prstGeom>
          <a:noFill/>
          <a:ln w="0">
            <a:noFill/>
          </a:ln>
        </p:spPr>
        <p:txBody>
          <a:bodyPr lIns="45720" rIns="45720" anchor="t">
            <a:noAutofit/>
          </a:bodyPr>
          <a:p>
            <a:pPr marL="514440" indent="-5144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multiple and flexible methods of presentation to give students with diverse learning styles various ways of acquiring information and knowledge.</a:t>
            </a:r>
            <a:endParaRPr b="0" lang="en-US" sz="2400" spc="-1" strike="noStrike">
              <a:solidFill>
                <a:srgbClr val="000000"/>
              </a:solidFill>
              <a:latin typeface="Lucida Sans Unicode"/>
            </a:endParaRPr>
          </a:p>
          <a:p>
            <a:pPr marL="51444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a:p>
            <a:pPr marL="514440" indent="-5144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multiple and flexible means of expression to provide diverse students with alternatives for demonstrating what they have learned.</a:t>
            </a:r>
            <a:endParaRPr b="0" lang="en-US" sz="24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514440" indent="-5144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multiple and flexible means of engagement to tap into diverse learners' interests, challenge them appropriately, and motivate them to learn. </a:t>
            </a:r>
            <a:endParaRPr b="0" lang="en-US" sz="2400" spc="-1" strike="noStrike">
              <a:solidFill>
                <a:srgbClr val="000000"/>
              </a:solidFill>
              <a:latin typeface="Lucida Sans Unicode"/>
            </a:endParaRPr>
          </a:p>
          <a:p>
            <a:pPr marL="514440" indent="-514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383">
                                            <p:txEl>
                                              <p:pRg st="0" end="0"/>
                                            </p:txEl>
                                          </p:spTgt>
                                        </p:tgtEl>
                                        <p:attrNameLst>
                                          <p:attrName>style.visibility</p:attrName>
                                        </p:attrNameLst>
                                      </p:cBhvr>
                                      <p:to>
                                        <p:strVal val="visible"/>
                                      </p:to>
                                    </p:set>
                                    <p:anim calcmode="lin" valueType="num">
                                      <p:cBhvr additive="base">
                                        <p:cTn id="63" dur="5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64" dur="5000" fill="hold"/>
                                        <p:tgtEl>
                                          <p:spTgt spid="383">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7" presetSubtype="4">
                                  <p:stCondLst>
                                    <p:cond delay="0"/>
                                  </p:stCondLst>
                                  <p:childTnLst>
                                    <p:set>
                                      <p:cBhvr>
                                        <p:cTn id="66" dur="1" fill="hold">
                                          <p:stCondLst>
                                            <p:cond delay="0"/>
                                          </p:stCondLst>
                                        </p:cTn>
                                        <p:tgtEl>
                                          <p:spTgt spid="383">
                                            <p:txEl>
                                              <p:pRg st="1" end="1"/>
                                            </p:txEl>
                                          </p:spTgt>
                                        </p:tgtEl>
                                        <p:attrNameLst>
                                          <p:attrName>style.visibility</p:attrName>
                                        </p:attrNameLst>
                                      </p:cBhvr>
                                      <p:to>
                                        <p:strVal val="visible"/>
                                      </p:to>
                                    </p:set>
                                    <p:anim calcmode="lin" valueType="num">
                                      <p:cBhvr additive="base">
                                        <p:cTn id="67" dur="50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3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383">
                                            <p:txEl>
                                              <p:pRg st="2" end="2"/>
                                            </p:txEl>
                                          </p:spTgt>
                                        </p:tgtEl>
                                        <p:attrNameLst>
                                          <p:attrName>style.visibility</p:attrName>
                                        </p:attrNameLst>
                                      </p:cBhvr>
                                      <p:to>
                                        <p:strVal val="visible"/>
                                      </p:to>
                                    </p:set>
                                    <p:anim calcmode="lin" valueType="num">
                                      <p:cBhvr additive="base">
                                        <p:cTn id="73" dur="5000" fill="hold"/>
                                        <p:tgtEl>
                                          <p:spTgt spid="383">
                                            <p:txEl>
                                              <p:pRg st="2" end="2"/>
                                            </p:txEl>
                                          </p:spTgt>
                                        </p:tgtEl>
                                        <p:attrNameLst>
                                          <p:attrName>ppt_x</p:attrName>
                                        </p:attrNameLst>
                                      </p:cBhvr>
                                      <p:tavLst>
                                        <p:tav tm="0">
                                          <p:val>
                                            <p:strVal val="#ppt_x"/>
                                          </p:val>
                                        </p:tav>
                                        <p:tav tm="100000">
                                          <p:val>
                                            <p:strVal val="#ppt_x"/>
                                          </p:val>
                                        </p:tav>
                                      </p:tavLst>
                                    </p:anim>
                                    <p:anim calcmode="lin" valueType="num">
                                      <p:cBhvr additive="base">
                                        <p:cTn id="74" dur="5000" fill="hold"/>
                                        <p:tgtEl>
                                          <p:spTgt spid="3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383">
                                            <p:txEl>
                                              <p:pRg st="4" end="4"/>
                                            </p:txEl>
                                          </p:spTgt>
                                        </p:tgtEl>
                                        <p:attrNameLst>
                                          <p:attrName>style.visibility</p:attrName>
                                        </p:attrNameLst>
                                      </p:cBhvr>
                                      <p:to>
                                        <p:strVal val="visible"/>
                                      </p:to>
                                    </p:set>
                                    <p:anim calcmode="lin" valueType="num">
                                      <p:cBhvr additive="base">
                                        <p:cTn id="79" dur="5000" fill="hold"/>
                                        <p:tgtEl>
                                          <p:spTgt spid="383">
                                            <p:txEl>
                                              <p:pRg st="4" end="4"/>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3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523520"/>
            <a:ext cx="8229600" cy="495324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Administrators</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rPr>
              <a:t>UDL Fact Sheet for Educato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Families</a:t>
            </a:r>
            <a:r>
              <a:rPr b="0" i="1"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English Language Learners</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Policymakers</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AST Questions and Answers on Universal Design for Learning</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National Universal Design for Learning Task Force </a:t>
            </a:r>
            <a:r>
              <a:rPr b="1" i="1" lang="en-US" sz="2700" spc="-1" strike="noStrike">
                <a:solidFill>
                  <a:srgbClr val="000000"/>
                </a:solidFill>
                <a:latin typeface="Lucida Sans Unicode"/>
              </a:rPr>
              <a:t>PowerPoint™ presentation</a:t>
            </a:r>
            <a:endParaRPr b="0" lang="en-US" sz="27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Title 2" descr=""/>
          <p:cNvPicPr/>
          <p:nvPr/>
        </p:nvPicPr>
        <p:blipFill>
          <a:blip r:embed="rId2"/>
          <a:stretch/>
        </p:blipFill>
        <p:spPr>
          <a:xfrm>
            <a:off x="450720" y="324000"/>
            <a:ext cx="8242560" cy="1285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mph" presetID="6">
                                  <p:stCondLst>
                                    <p:cond delay="0"/>
                                  </p:stCondLst>
                                  <p:childTnLst>
                                    <p:animScale>
                                      <p:cBhvr>
                                        <p:cTn id="86" dur="2000" fill="hold"/>
                                        <p:tgtEl>
                                          <p:spTgt spid="3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603360" y="237960"/>
            <a:ext cx="7785000" cy="762120"/>
          </a:xfrm>
          <a:prstGeom prst="rect">
            <a:avLst/>
          </a:prstGeom>
          <a:ln w="0">
            <a:noFill/>
          </a:ln>
        </p:spPr>
      </p:pic>
      <p:sp>
        <p:nvSpPr>
          <p:cNvPr id="387" name="PlaceHolder 1"/>
          <p:cNvSpPr>
            <a:spLocks noGrp="1"/>
          </p:cNvSpPr>
          <p:nvPr>
            <p:ph type="subTitle"/>
          </p:nvPr>
        </p:nvSpPr>
        <p:spPr>
          <a:xfrm>
            <a:off x="533520" y="1066320"/>
            <a:ext cx="8153280" cy="5410440"/>
          </a:xfrm>
          <a:prstGeom prst="rect">
            <a:avLst/>
          </a:prstGeom>
          <a:noFill/>
          <a:ln w="0">
            <a:noFill/>
          </a:ln>
        </p:spPr>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sessments </a:t>
            </a:r>
            <a:endParaRPr b="0" lang="en-US" sz="2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 Ms. Garcia’s 6th-grade classroom</a:t>
            </a:r>
            <a:r>
              <a:rPr b="0" lang="en-US" sz="2000" spc="-1" strike="noStrike">
                <a:solidFill>
                  <a:srgbClr val="000000"/>
                </a:solidFill>
                <a:latin typeface="Times New Roman"/>
                <a:ea typeface="Times New Roman"/>
              </a:rPr>
              <a:t>, students are asked to become experts on ancient Mesopotamia and share their knowledge with the class. They are given a variety of choices in how to accomplish this. They take this responsibility very seriously and committed to research and present information to the best of their ability. Suddenly ancient Mesopotamia, a potentially dull and unconnected subject for middle-schoolers, elicits immense enthusiasm. </a:t>
            </a:r>
            <a:endParaRPr b="0" lang="en-US" sz="2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udents work in groups and individually write newspaper articles, write, direct and film television news programs, perform puppet shows and plays, create posters or write research papers, then presented their work to the class. Providing choices in expression gives students more opportunity and incentive to develop expert products, thereby becoming more active as learners.</a:t>
            </a:r>
            <a:br>
              <a:rPr sz="2400"/>
            </a:br>
            <a:endParaRPr b="0" lang="en-US" sz="20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ShockwaveFlash1"/>
          <p:cNvGraphicFramePr/>
          <p:nvPr/>
        </p:nvGraphicFramePr>
        <p:xfrm>
          <a:off x="380880" y="762120"/>
          <a:ext cx="8151840" cy="4876560"/>
        </p:xfrm>
        <a:graphic>
          <a:graphicData uri="http://schemas.openxmlformats.org/presentationml/2006/ole">
            <p:oleObj r:id="rId1" spid="">
              <p:embed/>
              <p:pic>
                <p:nvPicPr>
                  <p:cNvPr id="389" name="ShockwaveFlash1" descr=""/>
                  <p:cNvPicPr/>
                  <p:nvPr/>
                </p:nvPicPr>
                <p:blipFill>
                  <a:blip r:embed="rId2"/>
                  <a:stretch/>
                </p:blipFill>
                <p:spPr>
                  <a:xfrm>
                    <a:off x="380880" y="762120"/>
                    <a:ext cx="8151840" cy="487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d0d0d"/>
                </a:solidFill>
                <a:uFillTx/>
                <a:latin typeface="Lucida Sans Unicode"/>
              </a:rPr>
              <a:t>http://www.advocacyinstitute.org/UDL/resources.shtm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d0d0d"/>
                </a:solidFill>
                <a:uFillTx/>
                <a:latin typeface="Lucida Sans Unicode"/>
              </a:rPr>
              <a:t>http://www.cast.org/teachingeverystudent/ideas/tes/chapter6.cf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4:13:49Z</dcterms:created>
  <dc:creator>Barbara Kington</dc:creator>
  <dc:description/>
  <dc:language>en-US</dc:language>
  <cp:lastModifiedBy>Barbara Kington</cp:lastModifiedBy>
  <dcterms:modified xsi:type="dcterms:W3CDTF">2010-12-06T07:02:36Z</dcterms:modified>
  <cp:revision>18</cp:revision>
  <dc:subject/>
  <dc:title>UDL  Universal Design for Learning</dc:title>
</cp:coreProperties>
</file>